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28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4FF-E5D1-4BCA-9C8C-419FC5CA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8CEC-6EB6-4889-9298-12705CC1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140A-EB0D-4A76-B484-43B30F63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127-3554-4823-B0CD-B2F54141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F01-8D19-45B5-A24D-36CA4FE1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B7BA-FCCF-4348-B717-CABF07E2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A0A-3ADD-4826-B99F-7324A534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A19-CA3B-45CF-85DC-8D761AF7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9A2-C73F-49CD-AA66-8AD5740B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24A6-F696-4D3A-9064-A4AA0F5D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B36-53F1-4B8F-9503-7BCC66B3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2D7F-7C8F-4333-9490-7414391A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00E4-B617-4CAC-AEE3-88F0BAAE0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hucklingmonkey.files.wordpress.com/2007/01/colts.jpeg&amp;imgrefurl=http://chucklingmonkey.wordpress.com/2007/01/&amp;usg=__haF2mqoBHWrNaz8GlDzT7ZuEwXc=&amp;h=531&amp;w=345&amp;sz=53&amp;hl=en&amp;start=18&amp;tbnid=sEP_9-rx-6lf7M:&amp;tbnh=132&amp;tbnw=86&amp;prev=/images%3Fq%3Dcolts%26gbv%3D2%26hl%3Den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google.com/imgres?imgurl=http://scienceblogs.com/corpuscallosum/images/pumpkin_pie.jpg&amp;imgrefurl=http://scienceblogs.com/corpuscallosum/2006/11/thanksgiving_pi.php&amp;usg=__6_96UcnEuh1z2ohUbfbAL2QMFKY=&amp;h=304&amp;w=304&amp;sz=22&amp;hl=en&amp;start=6&amp;tbnid=TZGjpg_0740PTM:&amp;tbnh=116&amp;tbnw=116&amp;prev=/images%3Fq%3Dpie%26gbv%3D2%26hl%3Den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google.com/imgres?imgurl=http://rlv.zcache.com/charlie_weis_ate_my_sandwich_tshirt-p235218895231751973yx7i_400.jpg&amp;imgrefurl=http://www.zazzle.com.au/charlie_weis_ate_my_sandwich_tshirt-235218895231751973&amp;usg=__xAvG6EIF2XdZkQK2dW4S-jE_9wI=&amp;h=400&amp;w=400&amp;sz=27&amp;hl=en&amp;start=23&amp;um=1&amp;itbs=1&amp;tbnid=EFZI3pmKmfhZ-M:&amp;tbnh=124&amp;tbnw=124&amp;prev=/images%3Fq%3Dfunny%2Bcharlie%2Bweis%2Bpictures%26ndsp%3D20%26hl%3Den%26sa%3DN%26start%3D20%26um%3D1" TargetMode="External"/><Relationship Id="rId6" Type="http://schemas.openxmlformats.org/officeDocument/2006/relationships/image" Target="../media/image30.jpeg"/><Relationship Id="rId7" Type="http://schemas.openxmlformats.org/officeDocument/2006/relationships/hyperlink" Target="http://images.google.com/imgres?imgurl=http://www.bildango.com/wp-content/uploads/2008/12/videogames.jpg&amp;imgrefurl=http://www.bildango.com/tag/gaming/&amp;usg=__HHSvTt2fpVHm9WCy-_91EmL_iQU=&amp;h=480&amp;w=343&amp;sz=53&amp;hl=en&amp;start=22&amp;um=1&amp;itbs=1&amp;tbnid=M543mCR4-WbYGM:&amp;tbnh=129&amp;tbnw=92&amp;prev=/images%3Fq%3Dvideo%2Bgames%26ndsp%3D20%26hl%3Den%26sa%3DN%26start%3D20%26um%3D1" TargetMode="External"/><Relationship Id="rId8" Type="http://schemas.openxmlformats.org/officeDocument/2006/relationships/image" Target="../media/image31.jpeg"/><Relationship Id="rId9" Type="http://schemas.openxmlformats.org/officeDocument/2006/relationships/hyperlink" Target="http://images.google.com/imgres?imgurl=http://sportbloopers.net/wp-content/uploads/2009/07/lebron_wallpaper.jpg&amp;imgrefurl=http://sportbloopers.net/lebron-james-desktop-wallpapers.html&amp;usg=__H2orqGljCEEzjvdgrAU4Nh7bbxI=&amp;h=768&amp;w=1024&amp;sz=111&amp;hl=en&amp;start=98&amp;um=1&amp;itbs=1&amp;tbnid=R5AIH8WAWpjRlM:&amp;tbnh=113&amp;tbnw=150&amp;prev=/images%3Fq%3Dlebron%2Bjames%26ndsp%3D20%26hl%3Den%26sa%3DN%26start%3D80%26um%3D1" TargetMode="External"/><Relationship Id="rId10" Type="http://schemas.openxmlformats.org/officeDocument/2006/relationships/image" Target="../media/image32.jpeg"/><Relationship Id="rId11" Type="http://schemas.openxmlformats.org/officeDocument/2006/relationships/hyperlink" Target="http://images.google.com/imgres?imgurl=http://www.misunderestimation.com/wp-content/uploads/2007/01/GotJuice.jpg&amp;imgrefurl=http://www.misunderestimation.com/index.php/2007/01/10/got-juice-no-baseball-hall-of-fame-for-mark-mcgwire/&amp;usg=__CVgqOZMJfT0oS8C6sVnQb91RC7c=&amp;h=440&amp;w=388&amp;sz=32&amp;hl=en&amp;start=2&amp;um=1&amp;itbs=1&amp;tbnid=N5G4KUESvyFwiM:&amp;tbnh=127&amp;tbnw=112&amp;prev=/images%3Fq%3Dmark%2Bmcgwire%2Bsteroids%26ndsp%3D20%26hl%3Den%26sa%3DN%26um%3D1" TargetMode="External"/><Relationship Id="rId12" Type="http://schemas.openxmlformats.org/officeDocument/2006/relationships/image" Target="../media/image33.jpeg"/><Relationship Id="rId13" Type="http://schemas.openxmlformats.org/officeDocument/2006/relationships/image" Target="../media/image34.png"/><Relationship Id="rId14" Type="http://schemas.openxmlformats.org/officeDocument/2006/relationships/image" Target="../media/image35.jpeg"/><Relationship Id="rId15" Type="http://schemas.openxmlformats.org/officeDocument/2006/relationships/image" Target="../media/image36.jpeg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14440" y="533520"/>
            <a:ext cx="5943600" cy="792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76520" y="2895480"/>
            <a:ext cx="4152960" cy="96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814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ess Wh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057400" y="39625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90920" y="5638680"/>
            <a:ext cx="1143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70480"/>
            <a:ext cx="1712880" cy="4673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14680" cy="4470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15080" y="0"/>
            <a:ext cx="1942920" cy="3011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89120" y="0"/>
            <a:ext cx="1343160" cy="5384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29040" y="0"/>
            <a:ext cx="2000160" cy="204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29240" y="2133720"/>
            <a:ext cx="2228760" cy="3238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3"/>
          <a:srcRect l="50002" t="31250" r="21876" b="26042"/>
          <a:stretch/>
        </p:blipFill>
        <p:spPr>
          <a:xfrm>
            <a:off x="2743200" y="2031840"/>
            <a:ext cx="2171880" cy="3861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4"/>
          <a:stretch/>
        </p:blipFill>
        <p:spPr>
          <a:xfrm>
            <a:off x="1714680" y="5384880"/>
            <a:ext cx="3371760" cy="3759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5"/>
          <a:stretch/>
        </p:blipFill>
        <p:spPr>
          <a:xfrm>
            <a:off x="4800600" y="4978440"/>
            <a:ext cx="20574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0" y="5867280"/>
            <a:ext cx="7621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7:56:31Z</dcterms:created>
  <dc:creator>Patrick J. Mooney</dc:creator>
  <dc:description/>
  <dc:language>en-US</dc:language>
  <cp:lastModifiedBy>Patrick J. Mooney</cp:lastModifiedBy>
  <dcterms:modified xsi:type="dcterms:W3CDTF">2010-01-22T18:15:09Z</dcterms:modified>
  <cp:revision>3</cp:revision>
  <dc:subject/>
  <dc:title>Slide 1</dc:title>
</cp:coreProperties>
</file>